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326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8CAE-4995-44D1-AFC7-03EAE551B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67FD-7E4D-4620-8CCB-1D027A55A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DA9A-A370-4E60-BEF3-317A9EB9B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1320-A342-4451-9E77-E97E191C9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EDD5-94E1-4B92-B272-EC6A0CFFF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731E-4AF3-411D-8932-3EF20A24B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7040-7892-47B4-8101-048360584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25B7-D0E5-474E-9EA7-66A839C41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FD98-FCEF-4F96-A198-2C1A3F81F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CD5B-2214-4928-9007-35DCA1C68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37F1-494E-43C5-9D1E-4A69DAC6A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DB12-B156-4531-B3BB-5B94BB5B2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9D220-3C63-40B3-94ED-1A2F4741C4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Bookman Old Style"/>
              </a:rPr>
              <a:t>Итоговая сессия Ученого совета РГГМ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3300"/>
                </a:solidFill>
                <a:latin typeface="Bookman Old Style"/>
              </a:rPr>
              <a:t>22-23 </a:t>
            </a:r>
            <a:r>
              <a:rPr b="1" lang="ru-RU" sz="3600" spc="-1" strike="noStrike">
                <a:solidFill>
                  <a:srgbClr val="ff3300"/>
                </a:solidFill>
                <a:latin typeface="Bookman Old Style"/>
              </a:rPr>
              <a:t>января 20</a:t>
            </a:r>
            <a:r>
              <a:rPr b="1" lang="en-US" sz="3600" spc="-1" strike="noStrike">
                <a:solidFill>
                  <a:srgbClr val="ff3300"/>
                </a:solidFill>
                <a:latin typeface="Bookman Old Style"/>
              </a:rPr>
              <a:t>13</a:t>
            </a:r>
            <a:r>
              <a:rPr b="1" lang="ru-RU" sz="3600" spc="-1" strike="noStrike">
                <a:solidFill>
                  <a:srgbClr val="ff3300"/>
                </a:solidFill>
                <a:latin typeface="Bookman Old Style"/>
              </a:rPr>
              <a:t> го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56908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Сведения о НИР </a:t>
            </a:r>
            <a:r>
              <a:rPr b="1" lang="en-US" sz="2000" spc="-1" strike="noStrike">
                <a:solidFill>
                  <a:srgbClr val="ff3300"/>
                </a:solidFill>
                <a:latin typeface="Bookman Old Style"/>
              </a:rPr>
              <a:t>по кафедрам / подразделениям РГГМУ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 в 2012 году (часть 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179280" y="712800"/>
          <a:ext cx="8785440" cy="5592600"/>
        </p:xfrm>
        <a:graphic>
          <a:graphicData uri="http://schemas.openxmlformats.org/drawingml/2006/table">
            <a:tbl>
              <a:tblPr/>
              <a:tblGrid>
                <a:gridCol w="2346480"/>
                <a:gridCol w="3125880"/>
                <a:gridCol w="1309680"/>
                <a:gridCol w="2003400"/>
              </a:tblGrid>
              <a:tr h="31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Факульт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Кафед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Кол-во те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Объем, тыс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320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Экологии и физики природной сре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Прикладной эколог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1 7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Физи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5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3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Химии природной сре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Эколог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8 96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3200"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Экономический и социально-гуманитар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Экономики и менеджмен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Экономики предприятия и учетных систе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8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Социально-гуманитарных нау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1 5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3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Иностранных язык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3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Связей с общественностью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НИ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99 2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48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В т.ч.: - Морской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       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институ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35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       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- ИГЭ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2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6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- Лаборатория спутниковой океанограф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69 352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Управление международных связ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744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1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160 509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684360" y="549360"/>
            <a:ext cx="813564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Количество студентов и аспирантов, участвовавших</a:t>
            </a:r>
            <a:br>
              <a:rPr sz="1600"/>
            </a:b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в выполнении НИР в 2012 год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187280" y="765000"/>
            <a:ext cx="7056720" cy="626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Bookman Old Style"/>
              </a:rPr>
              <a:t>Участие в выставках и конференциях в 2012 го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79280" y="2133720"/>
            <a:ext cx="8786880" cy="35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Bookman Old Style"/>
              </a:rPr>
              <a:t>Выставки</a:t>
            </a:r>
            <a:r>
              <a:rPr b="1" lang="ru-RU" sz="1600" spc="-1" strike="noStrike">
                <a:solidFill>
                  <a:srgbClr val="000000"/>
                </a:solidFill>
                <a:latin typeface="Bookman Old Style"/>
              </a:rPr>
              <a:t>, всего – </a:t>
            </a:r>
            <a:r>
              <a:rPr b="1" lang="ru-RU" sz="1600" spc="-1" strike="noStrike">
                <a:solidFill>
                  <a:srgbClr val="ff0000"/>
                </a:solidFill>
                <a:latin typeface="Bookman Old Style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в том числе   международные </a:t>
            </a:r>
            <a:r>
              <a:rPr b="0" lang="en-US" sz="1600" spc="-1" strike="noStrike">
                <a:solidFill>
                  <a:srgbClr val="000000"/>
                </a:solidFill>
                <a:latin typeface="Bookman Old Style"/>
              </a:rPr>
              <a:t>- </a:t>
            </a:r>
            <a:r>
              <a:rPr b="0" lang="ru-RU" sz="1600" spc="-1" strike="noStrike">
                <a:solidFill>
                  <a:srgbClr val="ff0000"/>
                </a:solidFill>
                <a:latin typeface="Bookman Old Style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Bookman Old Style"/>
              </a:rPr>
              <a:t>Премии, дипломы, награды</a:t>
            </a:r>
            <a:r>
              <a:rPr b="1" lang="ru-RU" sz="1600" spc="-1" strike="noStrike">
                <a:solidFill>
                  <a:srgbClr val="000000"/>
                </a:solidFill>
                <a:latin typeface="Bookman Old Style"/>
              </a:rPr>
              <a:t> - </a:t>
            </a:r>
            <a:r>
              <a:rPr b="1" lang="ru-RU" sz="1600" spc="-1" strike="noStrike">
                <a:solidFill>
                  <a:srgbClr val="ff0000"/>
                </a:solidFill>
                <a:latin typeface="Bookman Old Style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Bookman Old Style"/>
              </a:rPr>
              <a:t>Конференции –</a:t>
            </a:r>
            <a:r>
              <a:rPr b="1" lang="ru-RU" sz="16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Bookman Old Style"/>
              </a:rPr>
              <a:t>112</a:t>
            </a:r>
            <a:r>
              <a:rPr b="1" lang="ru-RU" sz="1600" spc="-1" strike="noStrike">
                <a:solidFill>
                  <a:srgbClr val="000000"/>
                </a:solidFill>
                <a:latin typeface="Bookman Old Style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в том числе  на базе вуза -  </a:t>
            </a:r>
            <a:r>
              <a:rPr b="0" lang="ru-RU" sz="1600" spc="-1" strike="noStrike">
                <a:solidFill>
                  <a:srgbClr val="ff0000"/>
                </a:solidFill>
                <a:latin typeface="Bookman Old Style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Bookman Old Style"/>
              </a:rPr>
              <a:t>Количество сотрудников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Bookman Old Style"/>
              </a:rPr>
              <a:t> </a:t>
            </a:r>
            <a:r>
              <a:rPr b="1" lang="ru-RU" sz="1600" spc="-1" strike="noStrike">
                <a:solidFill>
                  <a:srgbClr val="ff3300"/>
                </a:solidFill>
                <a:latin typeface="Bookman Old Style"/>
              </a:rPr>
              <a:t>выступивших на конференциях с докладами</a:t>
            </a:r>
            <a:r>
              <a:rPr b="1" lang="ru-RU" sz="1600" spc="-1" strike="noStrike">
                <a:solidFill>
                  <a:srgbClr val="000000"/>
                </a:solidFill>
                <a:latin typeface="Bookman Old Style"/>
              </a:rPr>
              <a:t> – </a:t>
            </a:r>
            <a:r>
              <a:rPr b="1" lang="ru-RU" sz="1600" spc="-1" strike="noStrike">
                <a:solidFill>
                  <a:srgbClr val="ff0000"/>
                </a:solidFill>
                <a:latin typeface="Bookman Old Style"/>
              </a:rPr>
              <a:t>23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713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Bookman Old Style"/>
              </a:rPr>
              <a:t>Результативность научных исследований в</a:t>
            </a:r>
            <a:r>
              <a:rPr b="1" lang="en-US" sz="2400" spc="-1" strike="noStrike">
                <a:solidFill>
                  <a:srgbClr val="ff0000"/>
                </a:solidFill>
                <a:latin typeface="Bookman Old Style"/>
              </a:rPr>
              <a:t> 2012 го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84360" y="692280"/>
          <a:ext cx="7991280" cy="5632200"/>
        </p:xfrm>
        <a:graphic>
          <a:graphicData uri="http://schemas.openxmlformats.org/drawingml/2006/table">
            <a:tbl>
              <a:tblPr/>
              <a:tblGrid>
                <a:gridCol w="6264000"/>
                <a:gridCol w="1727280"/>
              </a:tblGrid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Монограф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Количество публикаций в сборниках трудов конференц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в том числе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-международных  и всероссийских  конференций,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симпозиум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</a:t>
                      </a: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- друге сборн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Учебники и учебные пособ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Статьи, всего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20</a:t>
                      </a:r>
                      <a:r>
                        <a:rPr b="1" i="1" lang="ru-RU" sz="16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- в зарубежных издани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- в российских издани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8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Заявки на объекты промышленной собствен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- изобрет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- полезные моде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Патенты Росс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Свидетельства  о государственной регистрации Роспатенто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- программ ЭВ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- баз дан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plus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77724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Пленарное заседание</a:t>
            </a:r>
            <a:br>
              <a:rPr sz="1400"/>
            </a:br>
            <a:r>
              <a:rPr b="1" lang="ru-RU" sz="1200" spc="-1" strike="noStrike">
                <a:solidFill>
                  <a:srgbClr val="ff3300"/>
                </a:solidFill>
                <a:latin typeface="Bookman Old Style"/>
              </a:rPr>
              <a:t>2</a:t>
            </a:r>
            <a:r>
              <a:rPr b="1" lang="en-US" sz="1200" spc="-1" strike="noStrike">
                <a:solidFill>
                  <a:srgbClr val="ff3300"/>
                </a:solidFill>
                <a:latin typeface="Bookman Old Style"/>
              </a:rPr>
              <a:t>2</a:t>
            </a:r>
            <a:r>
              <a:rPr b="1" lang="ru-RU" sz="1200" spc="-1" strike="noStrike">
                <a:solidFill>
                  <a:srgbClr val="ff3300"/>
                </a:solidFill>
                <a:latin typeface="Bookman Old Style"/>
              </a:rPr>
              <a:t> января 20</a:t>
            </a:r>
            <a:r>
              <a:rPr b="1" lang="en-US" sz="1200" spc="-1" strike="noStrike">
                <a:solidFill>
                  <a:srgbClr val="ff3300"/>
                </a:solidFill>
                <a:latin typeface="Bookman Old Style"/>
              </a:rPr>
              <a:t>13</a:t>
            </a:r>
            <a:r>
              <a:rPr b="1" lang="ru-RU" sz="1200" spc="-1" strike="noStrike">
                <a:solidFill>
                  <a:srgbClr val="ff3300"/>
                </a:solidFill>
                <a:latin typeface="Bookman Old Style"/>
              </a:rPr>
              <a:t> г., Актовый зал РГГМ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19280" y="630360"/>
            <a:ext cx="5925960" cy="62276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755640" y="1700280"/>
            <a:ext cx="763272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Научная деятельность</a:t>
            </a: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Bookman Old Style"/>
              </a:rPr>
              <a:t>Российского государственного гидрометеорологического университе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в 20</a:t>
            </a: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12</a:t>
            </a: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 го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364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Основные научные направления </a:t>
            </a:r>
            <a:r>
              <a:rPr b="1" lang="en-US" sz="2400" spc="-1" strike="noStrike">
                <a:solidFill>
                  <a:srgbClr val="ff3300"/>
                </a:solidFill>
                <a:latin typeface="Bookman Old Style"/>
              </a:rPr>
              <a:t>РГГ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971640" y="765000"/>
          <a:ext cx="6983280" cy="5761080"/>
        </p:xfrm>
        <a:graphic>
          <a:graphicData uri="http://schemas.openxmlformats.org/drawingml/2006/table">
            <a:tbl>
              <a:tblPr/>
              <a:tblGrid>
                <a:gridCol w="441360"/>
                <a:gridCol w="654192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Название научного направления (научной школы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храна окружающей среды, мониторинг, моделирование возникновения и развития природных и техногенных процессов на водных объектах и в атмосфер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оретические и экспериментальные исследования гидрофизических, гидрохимических и гидробиологических процессов в морях и прибрежных зонах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учение динамики водных ресурсов и качества вод в условиях естественного развития гидрометеорологических процессов с целью создания системы наиболее рационального использования и охраны поверхностных вод суш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следования атмосферных процессов и явлений, оценка изменений климата под влиянием естественных и антропогенных факторов в интересах обеспечения народного хозяйства и охраны окружающей среды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здание диагностических и прогностических моделей развития природных и техногенных катастрофических ситуаций на водных объектах и в приземном слое атмосферы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ногосенсорные геоинформационные системы дистанционного мониторинга окружающей среды. Технологии сбора, обработки, преобразования и моделирования геоинформации, информационная безопасность в геоинформационных системах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ономика и управление народным хозяйством, управление инновациями с учетом природных факторов, экономика природопользовани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учение текстовых лексико-грамматических и семантико-синтаксических особенностей подъязыка гидрометеорологии. Исследование научной, информационной и официально-деловой реч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3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учение системы комплексного управления прибрежными зонами морей России, устойчивого социально-экономического развития прибрежных территорий, рационального использования природных ресурсо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6520" y="289080"/>
            <a:ext cx="81388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3300"/>
                </a:solidFill>
                <a:latin typeface="Bookman Old Style"/>
              </a:rPr>
              <a:t>Сводные сведения</a:t>
            </a:r>
            <a:r>
              <a:rPr b="1" lang="ru-RU" sz="2600" spc="-1" strike="noStrike">
                <a:solidFill>
                  <a:srgbClr val="000000"/>
                </a:solidFill>
                <a:latin typeface="Bookman Old Style"/>
              </a:rPr>
              <a:t> о выполнении НИР</a:t>
            </a:r>
            <a:br>
              <a:rPr sz="2600"/>
            </a:br>
            <a:r>
              <a:rPr b="1" lang="ru-RU" sz="2600" spc="-1" strike="noStrike">
                <a:solidFill>
                  <a:srgbClr val="000000"/>
                </a:solidFill>
                <a:latin typeface="Bookman Old Style"/>
              </a:rPr>
              <a:t>в 201</a:t>
            </a:r>
            <a:r>
              <a:rPr b="1" lang="en-US" sz="2600" spc="-1" strike="noStrike">
                <a:solidFill>
                  <a:srgbClr val="000000"/>
                </a:solidFill>
                <a:latin typeface="Bookman Old Style"/>
              </a:rPr>
              <a:t>2</a:t>
            </a:r>
            <a:r>
              <a:rPr b="1" lang="ru-RU" sz="2600" spc="-1" strike="noStrike">
                <a:solidFill>
                  <a:srgbClr val="000000"/>
                </a:solidFill>
                <a:latin typeface="Bookman Old Style"/>
              </a:rPr>
              <a:t> год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08000" y="1341360"/>
          <a:ext cx="8785080" cy="4584600"/>
        </p:xfrm>
        <a:graphic>
          <a:graphicData uri="http://schemas.openxmlformats.org/drawingml/2006/table">
            <a:tbl>
              <a:tblPr/>
              <a:tblGrid>
                <a:gridCol w="684000"/>
                <a:gridCol w="4040280"/>
                <a:gridCol w="1611360"/>
                <a:gridCol w="2449440"/>
              </a:tblGrid>
              <a:tr h="863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Источник финансиров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Количество НИ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Объем, тыс. руб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Средства федерального бюдже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8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42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764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,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Министерство образования и науки Р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9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6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50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,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РФФ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114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Другие Министерст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4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6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5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Средства Субъектов Федер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4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650,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Хоздоговорные НИ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8 553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4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Зарубежные контрак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480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,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3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10</a:t>
                      </a:r>
                      <a:r>
                        <a:rPr b="1" lang="ru-RU" sz="16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1</a:t>
                      </a:r>
                      <a:r>
                        <a:rPr b="1" lang="ru-RU" sz="16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60</a:t>
                      </a: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509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"/>
          <p:cNvSpPr/>
          <p:nvPr/>
        </p:nvSpPr>
        <p:spPr>
          <a:xfrm flipH="1">
            <a:off x="8603640" y="2924280"/>
            <a:ext cx="144360" cy="287280"/>
          </a:xfrm>
          <a:prstGeom prst="upArrow">
            <a:avLst>
              <a:gd name="adj1" fmla="val 50000"/>
              <a:gd name="adj2" fmla="val 4975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604360" y="3860640"/>
            <a:ext cx="144360" cy="287640"/>
          </a:xfrm>
          <a:prstGeom prst="downArrow">
            <a:avLst>
              <a:gd name="adj1" fmla="val 50000"/>
              <a:gd name="adj2" fmla="val 49813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8603640" y="5445000"/>
            <a:ext cx="144360" cy="287640"/>
          </a:xfrm>
          <a:prstGeom prst="upArrow">
            <a:avLst>
              <a:gd name="adj1" fmla="val 50000"/>
              <a:gd name="adj2" fmla="val 4981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8603640" y="3429000"/>
            <a:ext cx="144360" cy="287280"/>
          </a:xfrm>
          <a:prstGeom prst="upArrow">
            <a:avLst>
              <a:gd name="adj1" fmla="val 50000"/>
              <a:gd name="adj2" fmla="val 4975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8603640" y="4653000"/>
            <a:ext cx="144360" cy="287280"/>
          </a:xfrm>
          <a:prstGeom prst="upArrow">
            <a:avLst>
              <a:gd name="adj1" fmla="val 50000"/>
              <a:gd name="adj2" fmla="val 4975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6227640" y="4653000"/>
            <a:ext cx="144720" cy="287280"/>
          </a:xfrm>
          <a:prstGeom prst="upArrow">
            <a:avLst>
              <a:gd name="adj1" fmla="val 50000"/>
              <a:gd name="adj2" fmla="val 4962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8603640" y="2349360"/>
            <a:ext cx="144360" cy="287640"/>
          </a:xfrm>
          <a:prstGeom prst="upArrow">
            <a:avLst>
              <a:gd name="adj1" fmla="val 50000"/>
              <a:gd name="adj2" fmla="val 4981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227640" y="3860640"/>
            <a:ext cx="146160" cy="287640"/>
          </a:xfrm>
          <a:prstGeom prst="downArrow">
            <a:avLst>
              <a:gd name="adj1" fmla="val 50000"/>
              <a:gd name="adj2" fmla="val 492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6227640" y="2349360"/>
            <a:ext cx="144720" cy="287640"/>
          </a:xfrm>
          <a:prstGeom prst="upArrow">
            <a:avLst>
              <a:gd name="adj1" fmla="val 50000"/>
              <a:gd name="adj2" fmla="val 4968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227640" y="2924280"/>
            <a:ext cx="146160" cy="287280"/>
          </a:xfrm>
          <a:prstGeom prst="downArrow">
            <a:avLst>
              <a:gd name="adj1" fmla="val 50000"/>
              <a:gd name="adj2" fmla="val 49138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6227640" y="5084640"/>
            <a:ext cx="144720" cy="287640"/>
          </a:xfrm>
          <a:prstGeom prst="upArrow">
            <a:avLst>
              <a:gd name="adj1" fmla="val 50000"/>
              <a:gd name="adj2" fmla="val 4968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604360" y="5084640"/>
            <a:ext cx="144360" cy="287640"/>
          </a:xfrm>
          <a:prstGeom prst="downArrow">
            <a:avLst>
              <a:gd name="adj1" fmla="val 50000"/>
              <a:gd name="adj2" fmla="val 49813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6227640" y="5516640"/>
            <a:ext cx="144720" cy="287280"/>
          </a:xfrm>
          <a:prstGeom prst="upArrow">
            <a:avLst>
              <a:gd name="adj1" fmla="val 50000"/>
              <a:gd name="adj2" fmla="val 4962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6227640" y="3429000"/>
            <a:ext cx="144720" cy="287280"/>
          </a:xfrm>
          <a:prstGeom prst="upArrow">
            <a:avLst>
              <a:gd name="adj1" fmla="val 50000"/>
              <a:gd name="adj2" fmla="val 4962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539640" y="333360"/>
          <a:ext cx="8226360" cy="574560"/>
        </p:xfrm>
        <a:graphic>
          <a:graphicData uri="http://schemas.openxmlformats.org/drawingml/2006/table">
            <a:tbl>
              <a:tblPr/>
              <a:tblGrid>
                <a:gridCol w="8226360"/>
              </a:tblGrid>
              <a:tr h="57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Объемы НИР Государственного задания, ФЦП в 2012 г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961920" y="1374840"/>
          <a:ext cx="7448760" cy="5508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1920" y="1374840"/>
                    <a:ext cx="7448760" cy="55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96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Распределение тем НИР </a:t>
            </a:r>
            <a:r>
              <a:rPr b="1" lang="en-US" sz="1800" spc="-1" strike="noStrike">
                <a:solidFill>
                  <a:srgbClr val="ff3300"/>
                </a:solidFill>
                <a:latin typeface="Bookman Old Style"/>
              </a:rPr>
              <a:t>по факультетам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  в 2012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324000" y="593640"/>
          <a:ext cx="8353440" cy="5959440"/>
        </p:xfrm>
        <a:graphic>
          <a:graphicData uri="http://schemas.openxmlformats.org/drawingml/2006/table">
            <a:tbl>
              <a:tblPr/>
              <a:tblGrid>
                <a:gridCol w="3539880"/>
                <a:gridCol w="1789200"/>
                <a:gridCol w="3024360"/>
              </a:tblGrid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Факульт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Кол-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Объем, тыс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Метеорологическ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6 442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Гидрологическ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5 15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4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Океанологическ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843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Экологии и физики природной сре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9 63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Экономический и социально-гуманитар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 50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Информационных систем и геотехнолог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4 05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НИ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99 642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В т.ч.: - Морской  институ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5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- ИГЭ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6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69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,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-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Лаборатория спутниковой океанограф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69 352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Управление международных связ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744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1</a:t>
                      </a: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0</a:t>
                      </a:r>
                      <a:r>
                        <a:rPr b="1" lang="ru-RU" sz="14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160 509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" name=""/>
          <p:cNvSpPr/>
          <p:nvPr/>
        </p:nvSpPr>
        <p:spPr>
          <a:xfrm>
            <a:off x="8459640" y="4365720"/>
            <a:ext cx="144720" cy="287280"/>
          </a:xfrm>
          <a:prstGeom prst="downArrow">
            <a:avLst>
              <a:gd name="adj1" fmla="val 50000"/>
              <a:gd name="adj2" fmla="val 4962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459640" y="5229360"/>
            <a:ext cx="144720" cy="288720"/>
          </a:xfrm>
          <a:prstGeom prst="upArrow">
            <a:avLst>
              <a:gd name="adj1" fmla="val 50000"/>
              <a:gd name="adj2" fmla="val 4987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5640" y="1773360"/>
            <a:ext cx="144360" cy="287280"/>
          </a:xfrm>
          <a:prstGeom prst="downArrow">
            <a:avLst>
              <a:gd name="adj1" fmla="val 50000"/>
              <a:gd name="adj2" fmla="val 49751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35640" y="907920"/>
            <a:ext cx="144360" cy="289080"/>
          </a:xfrm>
          <a:prstGeom prst="upArrow">
            <a:avLst>
              <a:gd name="adj1" fmla="val 50000"/>
              <a:gd name="adj2" fmla="val 500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388360" y="981000"/>
            <a:ext cx="144360" cy="289080"/>
          </a:xfrm>
          <a:prstGeom prst="upArrow">
            <a:avLst>
              <a:gd name="adj1" fmla="val 50000"/>
              <a:gd name="adj2" fmla="val 500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388360" y="1341360"/>
            <a:ext cx="144360" cy="289080"/>
          </a:xfrm>
          <a:prstGeom prst="upArrow">
            <a:avLst>
              <a:gd name="adj1" fmla="val 50000"/>
              <a:gd name="adj2" fmla="val 500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435640" y="1341360"/>
            <a:ext cx="144360" cy="289080"/>
          </a:xfrm>
          <a:prstGeom prst="upArrow">
            <a:avLst>
              <a:gd name="adj1" fmla="val 50000"/>
              <a:gd name="adj2" fmla="val 500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388360" y="1773360"/>
            <a:ext cx="144360" cy="287280"/>
          </a:xfrm>
          <a:prstGeom prst="downArrow">
            <a:avLst>
              <a:gd name="adj1" fmla="val 50000"/>
              <a:gd name="adj2" fmla="val 49751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35640" y="2205000"/>
            <a:ext cx="144360" cy="289080"/>
          </a:xfrm>
          <a:prstGeom prst="upArrow">
            <a:avLst>
              <a:gd name="adj1" fmla="val 50000"/>
              <a:gd name="adj2" fmla="val 500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388360" y="2205000"/>
            <a:ext cx="144360" cy="289080"/>
          </a:xfrm>
          <a:prstGeom prst="upArrow">
            <a:avLst>
              <a:gd name="adj1" fmla="val 50000"/>
              <a:gd name="adj2" fmla="val 500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435640" y="2708280"/>
            <a:ext cx="144360" cy="289080"/>
          </a:xfrm>
          <a:prstGeom prst="upArrow">
            <a:avLst>
              <a:gd name="adj1" fmla="val 50000"/>
              <a:gd name="adj2" fmla="val 500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8388360" y="2708280"/>
            <a:ext cx="144360" cy="289080"/>
          </a:xfrm>
          <a:prstGeom prst="upArrow">
            <a:avLst>
              <a:gd name="adj1" fmla="val 50000"/>
              <a:gd name="adj2" fmla="val 500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435640" y="4797360"/>
            <a:ext cx="144360" cy="287280"/>
          </a:xfrm>
          <a:prstGeom prst="downArrow">
            <a:avLst>
              <a:gd name="adj1" fmla="val 50000"/>
              <a:gd name="adj2" fmla="val 49751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459640" y="4797360"/>
            <a:ext cx="144720" cy="289080"/>
          </a:xfrm>
          <a:prstGeom prst="upArrow">
            <a:avLst>
              <a:gd name="adj1" fmla="val 50000"/>
              <a:gd name="adj2" fmla="val 4993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35640" y="5229360"/>
            <a:ext cx="144360" cy="288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435640" y="3789360"/>
            <a:ext cx="144360" cy="287280"/>
          </a:xfrm>
          <a:prstGeom prst="downArrow">
            <a:avLst>
              <a:gd name="adj1" fmla="val 50000"/>
              <a:gd name="adj2" fmla="val 49751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459640" y="3789360"/>
            <a:ext cx="144720" cy="289080"/>
          </a:xfrm>
          <a:prstGeom prst="upArrow">
            <a:avLst>
              <a:gd name="adj1" fmla="val 50000"/>
              <a:gd name="adj2" fmla="val 4993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man Old Style"/>
              </a:rPr>
              <a:t>Сведения по НИР за 2012 год </a:t>
            </a:r>
            <a:r>
              <a:rPr b="1" lang="en-US" sz="1600" spc="-1" strike="noStrike">
                <a:solidFill>
                  <a:srgbClr val="ff3300"/>
                </a:solidFill>
                <a:latin typeface="Bookman Old Style"/>
              </a:rPr>
              <a:t>(по факультетам РГГМУ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179280" y="765000"/>
          <a:ext cx="8675640" cy="5778720"/>
        </p:xfrm>
        <a:graphic>
          <a:graphicData uri="http://schemas.openxmlformats.org/drawingml/2006/table">
            <a:tbl>
              <a:tblPr/>
              <a:tblGrid>
                <a:gridCol w="1658880"/>
                <a:gridCol w="290520"/>
                <a:gridCol w="723960"/>
                <a:gridCol w="289080"/>
                <a:gridCol w="652320"/>
                <a:gridCol w="285840"/>
                <a:gridCol w="579600"/>
                <a:gridCol w="290520"/>
                <a:gridCol w="685800"/>
                <a:gridCol w="180720"/>
                <a:gridCol w="654120"/>
                <a:gridCol w="285840"/>
                <a:gridCol w="650880"/>
                <a:gridCol w="506160"/>
                <a:gridCol w="941400"/>
              </a:tblGrid>
              <a:tr h="855360">
                <a:tc rowSpan="2">
                  <a:txBody>
                    <a:bodyPr lIns="36000" rIns="36000" tIns="540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Факульт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нистерство образования и науки Российской Федерации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ства субъектов федерации (Санкт-Петербург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ФФ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оз. договорные НИ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ругие минист-в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ждун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ект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0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м, тыс. руб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м, тыс. руб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м, тыс. руб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м, тыс. руб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м, тыс. руб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м, тыс. руб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Объем, тыс.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740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теорологическ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129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6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6 442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88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идрологическ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0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5 15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88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еанологическ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 63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65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251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2 843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92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ологии и физики природной сре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29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500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9 63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92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ономических и соц.-гуман. нау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5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 6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92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формационных систем и геотехнолог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05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4 05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740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 241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230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854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923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99 248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464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т.ч.:  -  Морской институт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5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464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ИГЭ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 369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20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6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69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,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- Лаборатория  спутниковой океанографи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 352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6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9 352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20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Управление международных связ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4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744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624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38628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3 130</a:t>
                      </a: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359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8553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465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3480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1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1605</a:t>
                      </a: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09</a:t>
                      </a: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checker dir="vert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15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0560" y="272880"/>
            <a:ext cx="856908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Сведения о НИР </a:t>
            </a:r>
            <a:r>
              <a:rPr b="1" lang="en-US" sz="2000" spc="-1" strike="noStrike">
                <a:solidFill>
                  <a:srgbClr val="ff3300"/>
                </a:solidFill>
                <a:latin typeface="Bookman Old Style"/>
              </a:rPr>
              <a:t>по кафедрам / подразделениям РГГМУ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 в 2012 году (часть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79280" y="1197000"/>
          <a:ext cx="8785440" cy="4948200"/>
        </p:xfrm>
        <a:graphic>
          <a:graphicData uri="http://schemas.openxmlformats.org/drawingml/2006/table">
            <a:tbl>
              <a:tblPr/>
              <a:tblGrid>
                <a:gridCol w="2448000"/>
                <a:gridCol w="3097080"/>
                <a:gridCol w="1368720"/>
                <a:gridCol w="1871640"/>
              </a:tblGrid>
              <a:tr h="32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Факульт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Кафед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Кол-во те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Объем, тыс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04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Метеорологическ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ДАК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1037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Метеорологических прогноз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12 905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ЭФ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1 2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МКО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1 3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40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Океанологическ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Океанолог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1 22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КУП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5 742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ПО и ОП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15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 8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8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184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Гидрологическ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Гидрофизики и гидропрогноз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2 29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Гидрологии суш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6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Гидрометр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62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Геодезии и гидрогеолог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1 64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Информационных систем и геотехнолог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Информационных технологий и систем безопаснос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2 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Морских измерительных систе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Высшей математики и теоретической механи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1 95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4T09:09:37Z</dcterms:created>
  <dc:creator>NIS-1</dc:creator>
  <dc:description/>
  <dc:language>en-US</dc:language>
  <cp:lastModifiedBy>User</cp:lastModifiedBy>
  <dcterms:modified xsi:type="dcterms:W3CDTF">2013-02-20T05:05:49Z</dcterms:modified>
  <cp:revision>623</cp:revision>
  <dc:subject/>
  <dc:title>Итоговая сессия Ученого совета РГГМУ</dc:title>
</cp:coreProperties>
</file>